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DFD-EDC5-405E-A782-7C54B0EA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C4C-9D27-4F93-843C-416C88D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208-4DBD-4349-9F39-4A99EAF3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305-B55F-43CE-BB32-B81D3FA9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B863-F8FE-4EFE-BB33-CAB052D9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C940-A305-4C17-86E5-F06C4861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423-7368-48DD-885B-109C6AF0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FC72-6306-42B5-8166-1DD7646A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733-63F0-43E7-917C-AC56C77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7BC5-FDCD-4EBA-92C0-468E1E0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9DDC-C617-45E4-97DD-03B9A10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617-DE87-4783-993B-540D3E2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8FDC-1387-42D8-814D-E6F35CA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AAF7-AC89-41E4-9C6F-71EBBB7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BC7-4D7F-4026-B09E-5ABC7347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8811-C06C-48F2-BE49-2791C6DF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0540-4267-4297-8B89-17B1B89E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CA3-82B2-4ECB-A631-3E5AE68B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BBC-421E-463A-966D-0011AB8E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7D1-304E-4FD9-97AD-0788BDC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D9E-4C47-4043-A53D-FF70FA7D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E02-0E6A-4AC6-A011-87F805C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4CB-694C-4C7D-9E01-1479F3F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553-2935-4070-99E5-A767E6F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EE70-85EF-487C-AAF4-1C3D55443860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CD3-E3FA-4C94-90B3-BABA4FEED6C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43BC-908D-46E5-B6EC-9B950E182EF0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558-27C3-4B7D-94B7-8929F09C529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隶书"/>
              </a:rPr>
              <a:t>软件工程硕士</a:t>
            </a:r>
            <a:br>
              <a:rPr sz="6000"/>
            </a:b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隶书"/>
              </a:rPr>
              <a:t>研究与论文工作指导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44956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姚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23B3-1BA3-46F4-8E44-E84044FDABC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BE2717-9C71-4DB3-9655-6FCBD936BBDC}" type="datetime1">
              <a:rPr lang="en-US"/>
              <a:t>07/30/26</a:t>
            </a:fld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研究进展与跟踪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 journal of your ide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some reasonable goals with deadlin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 to do li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inually update yo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blem statement; Goals; Approach; One-minute version of your research (elevator ride summary) ; Five-minute version of your resear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uss your research with </a:t>
            </a: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anyo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ho will liste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rite about your wor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ront your fears and weakness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lance reading, thinking, writing and hack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ing the research bl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6E1-7B0E-48B7-ADFA-F53658207C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5448D-47DA-42D2-AE8A-3BF520DAA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几点个人体会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一半时间做开发，一半时间看文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集中时间看文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做好记录和标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准备引用的文章要亲自看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文章题目粘贴为文件名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不同主题存入不同文件夹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看过的文献归入不同的子文件夹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重要文献编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不要好高骛远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文献要追踪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记录要复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8F8-3C5A-4848-B33F-1A6ED241A3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6B3BA-8077-43AF-BA24-B6BD2431A1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写作规划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凡事豫则立，不立则废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研究计划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开题报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阅读、思考、脑力激荡下获得的规划概念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简明扼要而具说服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DB9-7CD2-4CD9-944D-E8F4A1D6FC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EF562-C8ED-4605-9564-1DFA8A99E3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格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期刊论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为什么研究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怎么样研究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和结果是什么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发现发明型；分析计算型（仿真分析）；科技报告型；论证型；综述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期刊论文格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题目、摘要和关键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引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正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结论和致谢（结束语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参考文献、附录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58B-818D-42C6-A970-D87AB05C88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3D2F7-45F1-4972-BF48-2E76F79970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硕、博士学位论文组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摘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绪论（综述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概述——研究目的、范围；国内外进展情况、前人成果；本人设想、研究方法概述；论文安排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基本理论——介绍现有的基本理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正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核心——论文观点的理论分析（基本理论可放在综述部分）；系统方案及结果；本人的论点及讨论等；附有各种有关的图表、照片、公式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结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最终结论——主要研究内容和结论，意义，地位；主要创新点；存在问题、不足或进一步工作的设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C1B-57A3-4176-A40E-D386635AE9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AD320-CC18-4153-9E28-980B08E10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学位论文与期刊论文差别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内外进展应详细说明，基础理论也应介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创新（自己工作）论述详细，包括理论分析实验系统和实验结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结论中要有比较详细的总结并明确自己的贡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一篇（博士）学位论文可以包括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部分工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学位论文内容可以发表成若干篇期刊论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ED7-2F1C-4793-93C9-6B79552D0A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64230-1061-4155-9AFD-AA5A71AFFA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撰写过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开始撰稿时机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学位论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s.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期刊论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撰写前准备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先列出纲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将心中的想法及所考虑之点全部列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定稿步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决定材料与内容；整理资料 ；撰写绪论 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决定标题与摘要 ；第一次修正 ；静心后再处理稿件 ；立即第二次修正 ；再一次重复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415-C2F9-4E07-B74C-BB0FBB063E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90AE8-9B27-47A1-8DE4-3D05717DA1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实践工作中的研究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思路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cycle Best Practi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Overview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cess Improvement Case Stud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m Management and Team Leadership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Career Development and Training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sk specific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produc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C7D-2FCA-454A-8DD3-5B5253C44C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5F801-2A38-4AE7-B0CB-0F6C91BB04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资源连接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Software Engineering Institute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SEI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33"/>
                </a:solidFill>
                <a:latin typeface="宋体"/>
                <a:ea typeface="Times New Roman"/>
              </a:rPr>
              <a:t>http://www.sei.cmu.edu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软件工程职业等级：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construx.com/ladder/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开放源代码软件工程：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tigris.org/index.htm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内部分包含较多中文资源的软件工程站点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51cmm.com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umlchina.com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-900.ibm.com/developerWork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</a:rPr>
              <a:t>http://www.iturls.com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AB7-0AA0-4B04-B08F-AE056E3424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1AA0F-E334-4638-A83B-9B57B4434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部分专业刊物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1a8b"/>
                </a:solidFill>
                <a:latin typeface="宋体"/>
              </a:rPr>
              <a:t>www.sdmagazine.com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 ——Software Development Magaz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ddj.com ——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软件开发人员的专业刊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vsj.co.uk/home/——VSJ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是英国最受欢迎的软件专业杂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www.cio.com/resources/   ---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专门针对</a:t>
            </a:r>
            <a:r>
              <a:rPr b="0" lang="e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C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infoworld.com/cto/t_cto_magazine.html ---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专门针对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CTO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技术总监、总工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stqemagazine.com  ——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著名的软件工程管理读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http://www.tsepm.com/tsepm/ ——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著名的软件工程管理读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748-1A21-4E8B-98E2-A12B6D72B8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3C497-0E43-4A5D-91A5-522BFCC910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研究</a:t>
            </a:r>
            <a:r>
              <a:rPr b="0" i="1" lang="zh-CN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eeb00b"/>
                </a:solidFill>
                <a:latin typeface="Times New Roman"/>
              </a:rPr>
              <a:t>vs. </a:t>
            </a:r>
            <a:r>
              <a:rPr b="0" i="1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论文</a:t>
            </a:r>
            <a:r>
              <a:rPr b="0" i="1" lang="zh-CN" sz="3200" spc="-1" strike="noStrike">
                <a:solidFill>
                  <a:srgbClr val="eeb00b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eb00b"/>
                </a:solidFill>
                <a:latin typeface="Times New Roman"/>
              </a:rPr>
              <a:t>研究的最终目的在成果发表。完成研究成果的发表，才算研究历程的完整终结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80F-A481-435A-9538-CECA79607D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5FD30-C182-4552-A38F-8C69E69333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总结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做研究，写论文，要下苦功，天赋需苦功为伴，无捷径可循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发掘问题、收集资料、比较鉴别、去芜存精是做研究的基本功夫，必须有效掌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千万不要认为论文必须从第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页开始写到最后，重要的是立即着手开始写点什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155-699F-42E7-A62D-5FEC795C31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A6B90-2111-4CF2-BBA2-2542DDF3FB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666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问题和建议？？</a:t>
            </a:r>
            <a:endParaRPr b="0" lang="en-US" sz="6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DBC-B624-440C-A222-F1F3E9D4204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79BF0-A34A-479A-ADCA-006A5FAAF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研究”是什么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研究”与“问题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stions)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息息相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运用一套有系统的方法和步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atic approach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提出解决问题的答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swer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41B-CA71-45CA-9899-2FEE93A0F4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2F7E7-759A-425C-A93C-5E03C040FA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研究方法：旁征博引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广博收集研究和参考资料，细微观察，然后予以归纳、分析、批判——基本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如果抄袭一个人的作品，那是剽窃；如果抄袭十个人的作品，那是做研究工作；如果抄袭一百个人的作品那就成为学者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eaeaea"/>
                </a:solidFill>
                <a:latin typeface="宋体"/>
              </a:rPr>
              <a:t>第一种人好比”蜘蛛结网”，其材料不是从外面找来的，而是从肚子吐出来的；第二种人好比”蚂蚁囤粮”，他们只是将外面的东西，一一搬回储藏起来，并不加以加工改造；第三种人好比”蜜蜂酿蜜”，他们采摄百花的精华，加上一番酿造的功夫，做成了又香又甜的糖蜜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3AA-7C57-4BDC-8A45-7755E2E13C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D4476-D87F-4205-B367-8EE7FDE74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资料收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资料的宝库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et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与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GLE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检索技巧！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最终的检索结果还依赖于个人对于待检索知识的掌握程度和范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!!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资料鉴别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区别原始资料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mary sources)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和第二手资料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ary source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客观性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jectivity of the sou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作者个人的知名度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fications of the auth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等级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ve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E6F-840A-41A7-905B-A16D908A72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63419-98BA-401B-9FB2-E4237D918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资料消化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创新——多方吸收前人研究的精华，择善而从，融会贯通后再加以重组与利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Read A Technical Articl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基础阅读、检视阅读、分析阅读、主题阅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efficient - only read what you need t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ke notes on every paper you find worth read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what you have read on each topic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PhD thes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ckground, Method sec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FA6-CA01-458B-B6FB-F1EED68558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6BF31-68C7-4A77-9A0E-FEB4251935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研究选题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iggest </a:t>
            </a:r>
            <a:r>
              <a:rPr b="1" lang="en" sz="3200" spc="-1" strike="noStrike">
                <a:solidFill>
                  <a:srgbClr val="eeb00b"/>
                </a:solidFill>
                <a:latin typeface="Times New Roman"/>
              </a:rPr>
              <a:t>obstacle</a:t>
            </a:r>
            <a:r>
              <a:rPr b="0" lang="en" sz="3200" spc="-1" strike="noStrike">
                <a:solidFill>
                  <a:srgbClr val="eaeaea"/>
                </a:solidFill>
                <a:latin typeface="Times New Roman"/>
              </a:rPr>
              <a:t> for most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The subject should be timely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Your work should lead to a well defined set of results to which you can lay cla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题大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The best theses show a high level of creativ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430-2EA0-4307-ABE8-D6477EA625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8C9F9-65C5-4C04-A5DE-FB939FC903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研究选题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Becoming an Active Reader and Liste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eaeaea"/>
                </a:solidFill>
                <a:latin typeface="Times New Roman"/>
              </a:rPr>
              <a:t>Canonical questions</a:t>
            </a: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From where did the author seem to draw the ideas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What exactly was accomplished by this piece of work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How does it seem to relate to other work in the field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What would be the reasonable next step to build upon this work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What ideas from related fields might be brought to bear upon this subject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Exposing Yourself to Resear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Directed Stud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Developing the Germ of an Ide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29E-5C42-4C97-A13A-AB5D6AA687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632E7-CE8E-4796-A0EF-EA38B58986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研究选题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A Pitfall to Avoi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It is impossible to ``finish a literature review and then start research."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eb0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eeb00b"/>
                </a:solidFill>
                <a:latin typeface="Times New Roman"/>
              </a:rPr>
              <a:t>active</a:t>
            </a: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 reader</a:t>
            </a: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Choosing an Ide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Make a list of open problems and possible pro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Remain Act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continue reading: How can these ideas help me solve my research problem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Often the initial idea is quite far from the final thesis topi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A20-7184-4777-9B4A-C23741E4AF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A9F1E-9030-435D-ABB1-A206BB3F7C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02:34:48Z</dcterms:created>
  <dc:creator>ll</dc:creator>
  <dc:description/>
  <dc:language>en-US</dc:language>
  <cp:lastModifiedBy>zyao</cp:lastModifiedBy>
  <dcterms:modified xsi:type="dcterms:W3CDTF">2004-04-03T15:14:51Z</dcterms:modified>
  <cp:revision>1618</cp:revision>
  <dc:subject/>
  <dc:title>一、CSGUI图形环境综述</dc:title>
</cp:coreProperties>
</file>